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DBF-8A40-40E4-94DC-528168FF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A13-C43F-46BB-A971-5FEE7BB1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49B-C681-4C65-910E-6710239F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072-C4AB-4F50-84C3-A79236CA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4385-62E3-4993-A1F8-85A26354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7B93-02F1-4154-8D74-2BD5FE55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5330-67F3-4CDD-AB4D-111EDDF2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43CC-6CEC-4254-B63E-F41F25BC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B8B3-03D6-45EB-B6B9-741454F2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CA0C-A167-45E0-8C0D-9D414E64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A4A1-B9EB-4F45-A22A-35603755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D8B-29FE-496E-9EDE-57A814B3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7E9E-C73A-4214-8030-C13399CA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578E-19A9-41B9-A285-133D4156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2B3E-E57E-4430-B423-38A85CCA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54F5-19C7-4C4F-9BE5-4EB813A3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F800-8CAB-4D8B-968D-14CDE4BB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16E-119A-4AAD-AA5A-36EDD1C2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EFFB-EC64-497C-A7A2-362896BA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1646-5317-48F0-B9BC-4DB390AB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BA1-6C8E-4C67-A657-720A70BF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2EA-FE45-4AF7-86F8-A5BD38A1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F736-6AF2-4621-B4EB-8862CC2E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047-ED54-4CAE-B4A5-90B2AC3B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2FE8-3140-4386-9E6B-3292983730F2}" type="datetime">
              <a:rPr b="0" lang="en-US" sz="12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CF19-8F51-4484-928D-23178439CE9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9616-ABFD-40F8-ADB0-403E2453A9DC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0F1C-D29E-4FB0-9D6B-8961CD14B0E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sessing Speaking Activ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bric Desig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apFLP Listening/Speaking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5229ED5-A753-40E1-939E-A61184FC64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ink/Pair/Sh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types of assessment categories or elements do you include in rubrics for oral activiti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do your rubrics look like physically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Think: 2 min; Pair: 3 min; Share 5 m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FLP Listening/Speaking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C5B42-DD1F-45F8-894B-DF8E8DBC01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bric Components (Table)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Vertical Ax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epts to be taught (learning objectiv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ecific, measurable skil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Horizontal Axi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iteria to be evaluated (specifically named evidenc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ried descriptions of performance with clear, specific langu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FLP Listening/Speaking 200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2B6A0-6AA0-4FFD-80A7-3AD34D6834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preting score point leve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vel 4 = “Exceeds expectation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vel 3 = “Meets expectation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vel 2 = “Partially meets expectation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vel 1 = “Does not meet expectation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FLP Listening/Speaking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26A4F-4570-4125-93E9-B585EFB39A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ild-A-Rubri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ject context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vel 2 video skit in a restaura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th a partner, decide which assessment categories should be included in the rubri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hare out in 3 minu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FLP Listening/Speaking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D286C-09D0-4E13-9F20-A048832E81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scripto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gin with “Meets Expectation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th your partner, write descriptors for score point 3 for each assessment categ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hare out in 10 minu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FLP Listening/Speaking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34D8B-8E5A-4D04-B2B4-947DCC73C6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scriptor varia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th your partner, write level 1, 2, and 4 descriptors for your assigned assessment categ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port in 5 minu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FLP Listening/Speaking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77F72-A2AC-4A55-B4DA-CF056F7977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lections on rubr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s and c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actors to consi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eedback and revis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FLP Listening/Speaking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EC403-D542-4CBE-B1CC-6FFAABD771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19:56:49Z</dcterms:created>
  <dc:creator>Christine Lanphere</dc:creator>
  <dc:description/>
  <dc:language>en-US</dc:language>
  <cp:lastModifiedBy>Christine Lanphere</cp:lastModifiedBy>
  <dcterms:modified xsi:type="dcterms:W3CDTF">2008-04-19T04:21:29Z</dcterms:modified>
  <cp:revision>12</cp:revision>
  <dc:subject/>
  <dc:title>PowerPoint Presentation</dc:title>
</cp:coreProperties>
</file>